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B68-BE90-423A-9A13-04DB41F6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645-1494-4C42-8A87-B137B5B9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136E7-1F9B-44F1-BDD5-6C27B22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9BFD8-B668-4ECB-8877-B524E765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67EBD-88FB-48BD-817F-33DDBE30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15525-706D-4DBA-9AF1-A283EC26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0DDFA-3B19-4F75-8981-AD23F32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896A4-7C1F-44D8-879C-5EC71647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DDCE0-1D40-4477-B667-8ADDB99F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B44A0-AE24-4081-A8F8-816001A6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D774F-480F-4227-B1E6-8FE58198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5AA-2424-4710-B4B3-4D9600C7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5DA-39BF-417D-9A90-7451D1FA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10AC-AD5F-4FD3-97A2-EAD6C6EE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12A4D-10FA-4260-B9BA-868F5C24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BD725-1CD9-46F1-AF5B-7004323C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62E9A-3319-4AFF-8E8E-6C0D8FB4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B93A6-BE7D-4265-819D-1D25F45F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8D105-B2FC-4993-8F64-B4202EA1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645C9-08D5-47B7-AA01-FCCDA972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9ACFC-487F-4B51-A25A-F644318C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4470-BC41-4C5B-ABFB-258643AE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9A39F-0D77-445A-BD44-A673A042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A1097-726D-452E-901D-AEB22DAB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4C050-738D-4645-B6F4-52E8BA1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6A4E8-6E7E-4E64-A85A-53BE48FC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4E380-C774-41E9-B2C3-1327255A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3D71E4-5A48-44A7-AD72-4B5F5D01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7468BB-DEA6-40E0-870F-4585D047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88B8B4-DF30-43D5-904F-6C522D66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7170BA-8159-4572-953C-11844547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7D6FCB-3972-4B5E-A807-77486411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660D-023C-4F6F-A8F2-0AF821C1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F75F40-4D43-4F8A-8FEB-020302BA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6BA783-6511-4E7C-8EF4-BF65DDC5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BB2A58-C793-491A-980F-8665EDBB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EEB59E-DF93-4032-AE22-43CE06A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F6DEDB-C5B8-4DC0-9281-578299AE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6AC2A1-154D-48BA-AF46-1C56F28E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0F75B1-9764-4BD0-B8DA-F0909CDD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6DAB50-0425-4D0C-9DA4-96DF0325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0BDE42-1A00-40C6-92F7-2694DE64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E6AC01-677B-4870-BAAC-74CE5D13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3927-C1A2-47D9-9713-1723EB23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F55B35-8835-4CE0-8E4F-D6F2A732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1873E4-09E0-477B-9515-85509A19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982972-5A43-4B72-B7E6-AC1997FF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DFF2E0-B12C-4966-8BE4-870F677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F7F122-5687-4346-95D4-AB14BBB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627D90-CE80-4A07-A9F4-FEC45724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39FC4B-5488-40B2-A7F9-85C81835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D7527E-D74F-4E83-883A-F52F5364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3042B0-C848-41B7-8F0F-815D7CEF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A7E3B5-DBD8-4CE8-9E9C-A4D1A29A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BFAE-D9A3-4A9C-8E61-D068F831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D145ED-0624-47CB-9ADC-75E8A454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62AD44-3CEF-4A8F-A15B-451027AA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D81C69-A882-44E3-ADD2-34EDBAE2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A1257E-5544-4354-B14C-88EFF5F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1EC3D1-C1A2-4DF0-9C15-9FD3F99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84FEB7-E67A-4B46-BF4A-00A12A7D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9CA548-5B7A-4D51-8425-E55AC75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556CAD-6158-4B62-8977-65DB449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535FE9-493E-4D96-ADF1-32AB1CC1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A1EEF8-04D8-4B28-A91D-9BF71C10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E7F3-4B71-4779-8CF4-0ABDD883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8D0A56-5808-4A71-AE69-B90FB552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2BF6-AD53-4ED0-82A8-B73F73DD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F30-98BA-4F39-B7FC-E604097F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BCA1-74B3-4F5B-A5FC-47909F8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2ACF-39C2-4A2E-B258-5EF41F53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9598-645A-4A4F-8EC2-458F4E06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F125-099A-4C74-A98A-F78A0003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1CAA-2526-4429-9F94-8EC15DBB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634F-32CA-4A0E-874B-7AD4B626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AA43-2E30-4E11-A608-7A24298C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6162-B560-4E9C-ADDB-ECE22CEE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ACE1-1F6D-4E9C-B20B-D57BF4CB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E4C6-8675-46E5-A2BC-B63B403E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EFD-D096-4A95-AACD-19D863DE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F616-9162-4B7A-94B3-DA270E7A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B2BE-ED89-4576-8111-148746B9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E807-20DE-4F43-9125-55505344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B8FC-7BDD-4C4A-8AB1-F4E066D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EA0A-627E-4B59-93EE-FE324303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E9B0-A605-4CD2-95E8-48DBD02B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EDF1-7FAE-49A6-9F14-FF400F33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1DCF3-D16B-4B5E-B787-4AB81742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BB6B-406B-4F95-A86A-60335F8B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6101-D70B-4808-889F-B6395621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A30-3F2F-4DF3-A381-37AA9D36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78EC9-F6B6-4D2A-B4B1-51EF2A2B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47923-AFA0-4FC0-B0D4-CFB16C8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5B91-6529-4754-B803-2B18F75C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63231-2CA4-4433-AE5E-BD3D8EB1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F4B17-32F0-4E96-8CD7-F551FAB9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56CA-8F9D-483F-8A5B-DF0BD5EC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9130D-F4A0-444E-BC68-8F8498EF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681B1-A4BB-43F6-B244-3773938B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619A-8AA5-4FB2-92FA-54509F2A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A7E3-2E0B-4116-A127-8837D57A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4FE-4080-4C6D-B3A8-2AEFEC76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69BA9-3D2F-4CB8-BBE4-310E1F98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567DA-6050-4177-9B1D-53CEFC02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F6A7F-8D8C-45A6-823C-C7480ED0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B686-F477-4C89-BFC6-EB3CC63E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DAE4F-2C93-4F89-88A9-A24F4AE9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02DCE-EB7F-4AA5-857C-5FFB8944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8C154-50C7-4EA5-A3DD-7A88306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A61CC-0CDA-49C7-A71B-746BE03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2CA8D-D77D-48D2-840D-46A8CAAA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26BA-2A55-46C3-BA48-8901E129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37B-82A0-4D13-9303-CFEB8799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593B-30A2-401D-9B7B-F186617B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1BDD0-3696-414C-A49A-760A9269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D0643-07FA-49A8-B7DE-823A8B5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B6DB-B81C-4E63-9AA3-1F89970D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1F3FF-24EC-4890-8E33-2FB3D4D3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0A5AC-8E2F-45E2-86B0-E0DD87F0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F3E2-E138-4B41-A232-61C1879A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BD7D-11DB-459D-B284-BC47CFC3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802C5-2547-4403-AB86-C14FC5A0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904A2-8522-4FE5-A85F-9A16C0BB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DEA-43FD-4056-A229-BE3E04C8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6C9B-33D6-4E72-BC98-31DB2C98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65601-9095-4FE2-8DCC-5EC21F5A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BC853-4211-4232-927D-AD552FA6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A1573-C8AF-4D96-A115-8FF1AA0C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95528-DED0-43B0-A6AD-2E00244A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D7AE-75E1-450A-8D64-CD7256B1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4255-B9CF-431F-8C37-C3C331C4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48244-9032-4661-AC5E-F6F27A7F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6E510-DF64-4C54-A33C-965BFDE6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16C89-E9C7-42BB-A5D8-BAD55F3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373-9492-4E35-B419-0514A6A9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C85E9-9F13-4F18-8087-01D6C93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B23B7-8492-4391-9C26-79B0410F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C9F66-8BA5-4566-B6BD-64A01C6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BC7F3-828D-43F0-8D6B-9641A3DB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403C4-6912-4A5D-95C2-01FE9152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8520-2B8F-4890-BEBF-FF0ED815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11B60-39EA-489C-AB08-B60477D7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4FCF0-E598-4EC5-A037-8610B445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6E9B3-F16E-493B-9117-3D085A37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FF17-3F4B-4420-AC68-EBCDB95F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6B9-A5D6-43D5-8209-5EF2493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2AD49-B159-44CB-BADA-CE804C00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5F764-4518-4883-8B2C-B8B34AF4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A687F-43EC-4048-8027-D2185007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A3D42-0890-41AA-83EF-B91032EF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4FECC-A081-4552-B5B9-6048FA68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D2B32-8D4A-455E-AA30-86D83937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66377-F5FE-4C5E-974A-1AB0251F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20376-CA46-46C1-B3E5-275354E2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161D1-EE3B-4AA4-8CB3-E633CF0D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CB2D1-99A6-406B-8AE8-715582D1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D9DD3-4BF0-4B4F-941C-55C0A3278A16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90990-5207-44BC-B096-BFF0E4F035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2DA2A-73DD-48A0-84AC-85F043B3C933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F3814-A4B1-485B-8364-4CF210806E69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9DFFB-763C-4AFB-991F-BC65E9FFA263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6C96A-7802-44F4-BF2F-7DCA5EB1EF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8EB12-0074-4250-91CD-3FE4917872AF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80F92-9CD7-4AA1-830A-C75F21F4E5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998AD-B440-4915-B0D4-D3083E63740D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0DDAD-99E6-4326-A71C-41AD616F79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AD3F5-F5C7-4626-9ACA-1C99EF8F0689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EB4D5-B67D-4DD8-9011-9B7B57EE7F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B88D7-1BF9-4F1A-BC76-BAEA3E1B0EEA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35A45-67A9-4E8D-A394-A70D132C58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05F4E-7B69-4F08-90FB-E55E6315DE81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B563D-6602-4370-8DA6-F200AD7A99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550D7-A8AC-4895-A4C7-27A2DDE989CC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A29B7-6BA6-46A2-85FA-CD07710D58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548E0-04EC-40DF-9ABF-12353F66EA71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AAB71-16AD-40EF-8F84-063C89E026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72374-229B-4463-BB37-C37175F196FD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F5145-2AAE-478A-9D2F-5C1DA07740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5CA91-DF45-4CD0-9C3A-E8B7A3A1CB93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E23AA-8522-41B5-9401-F67522DC85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6EC65-A211-4806-A68E-6D1E049BC65A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20194-326D-4229-8E6A-E9F69B5E12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587DD-2938-4D42-BAE3-727AED54952B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44E6F-BE26-4F27-9CE1-3C15BE9580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f you give a teacher a mentor…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836640" y="3787920"/>
            <a:ext cx="83073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uction  in Whitefish Ba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he may ask for another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            Are you my mentor too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libri"/>
              </a:rPr>
              <a:t>Not exactly—but in Whitefish Bay you may be assigned two colleagues who support you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Mentor—A formally trained collaborative colleague who works with you to advance your standards based teaching practice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ROC  Resource Orientation Colleague- A natural grade level or curricular partner who eases you in to the Building Culture, Procedures, Curriculum and other firsts such as grading and conferen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7280"/>
            <a:ext cx="830916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Your Mentor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Listens to you at  “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What’s Working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” Meetings  and uses a Collaborative Assessment Log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AL)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to record what’s working and your choice of data for the mentor to look for when observing a lesson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elps you reflect on the  </a:t>
            </a:r>
            <a:r>
              <a:rPr b="0" i="1" lang="en-US" sz="1800" spc="-1" strike="noStrike">
                <a:solidFill>
                  <a:srgbClr val="404040"/>
                </a:solidFill>
                <a:latin typeface="Calibri"/>
              </a:rPr>
              <a:t>Continuum of Teacher Developmen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to select areas for grow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llaborates with you at  Half-Day 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lease Workshops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o process data on Assessment and Differenti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artners with you at Induction Program Ev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In District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At SEWNTP Consortium Sites-Cardinal Stritch Main Campus or City Center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Your ROC 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Links you to building and grade level culture and procedur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lans curriculum with you as need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nnects you to resources and colleagu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artners with your mentor to coordinate suppor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s your Oracle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fferentiation-Not just good for kids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15440" y="3225960"/>
            <a:ext cx="8309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It’s best practice for mentoring too!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ifferentiated Mentoring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17240" y="2770200"/>
            <a:ext cx="384012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263b86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263b86"/>
                </a:solidFill>
                <a:latin typeface="Calibri"/>
              </a:rPr>
              <a:t>Initial Educator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  Two Year Program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teacher in his or her PDP Reflection Year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52920" y="2770200"/>
            <a:ext cx="4160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3b86"/>
                </a:solidFill>
                <a:latin typeface="Calibri"/>
              </a:rPr>
              <a:t>Experienced Educator</a:t>
            </a:r>
            <a:r>
              <a:rPr b="0" lang="en-US" sz="3400" spc="-1" strike="noStrike">
                <a:solidFill>
                  <a:srgbClr val="404040"/>
                </a:solidFill>
                <a:latin typeface="Calibri"/>
              </a:rPr>
              <a:t> One Year Program</a:t>
            </a: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Calibri"/>
              </a:rPr>
              <a:t>A teacher with a professional license or  implementing an approved PDP goal</a:t>
            </a: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0280" y="1535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tor Support in Year One is Differentiated Too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17240" y="2676600"/>
            <a:ext cx="38401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b6f2"/>
                </a:solidFill>
                <a:latin typeface="Calibri"/>
              </a:rPr>
              <a:t>IE in Reflection Year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17240" y="3308040"/>
            <a:ext cx="38401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llaborates with you to complete 4 observation protoco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ttends 2 SEWNTP COPS (Community of Practice Seminar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ttends  WFB Workshops with you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irects you to PDP Sup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73320" y="2676600"/>
            <a:ext cx="38401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b6f2"/>
                </a:solidFill>
                <a:latin typeface="Calibri"/>
              </a:rPr>
              <a:t>Experienced Educator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873320" y="3308040"/>
            <a:ext cx="38401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Collaborates with you to complete 2 observation protocol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May attend 2 SEWNTP Seminars with you-Urban Education or Literacy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Attends WFB Workshops with you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Directs you to PDP Support as needed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9280" y="177444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Whitefish Bay new teachers are “caught” between a Roc and a…Mentor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17240" y="2031840"/>
            <a:ext cx="384012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6b6f2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17240" y="2998440"/>
            <a:ext cx="384012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trengths Bas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tandards Bas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New Teacher-Direct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Non-Evaluati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i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nfidentia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73320" y="2031840"/>
            <a:ext cx="384012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6b6f2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 rot="10800000">
            <a:off x="-3555720" y="3789360"/>
            <a:ext cx="1049400" cy="3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873680" y="2998800"/>
            <a:ext cx="384012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7:38:00Z</dcterms:created>
  <dc:creator>Mary Cieslewicz</dc:creator>
  <dc:description/>
  <dc:language>en-US</dc:language>
  <cp:lastModifiedBy>Whitefish Bay Schools</cp:lastModifiedBy>
  <dcterms:modified xsi:type="dcterms:W3CDTF">2013-08-22T22:12:19Z</dcterms:modified>
  <cp:revision>19</cp:revision>
  <dc:subject/>
  <dc:title>If you give a teacher a mentor..</dc:title>
</cp:coreProperties>
</file>